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92F-32C1-4E02-B57A-08160034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8A4-4720-41F9-80B0-22661E49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16E-417B-4752-AF80-8CD96DDF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B1C4-DDE5-49BF-AD6C-3A1E38E6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6F4-9F8D-4030-9D00-57CE3BC7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362C-4352-462C-9E0A-DA5A0492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26E-C4B6-447A-BCB7-0B6EF8A0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D23-B1C4-418E-ADED-A84F377D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98F-E34E-47DB-891B-D15BB57D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1F4-EE26-4D72-B63E-630DC816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C97-6A0B-458B-AFD3-1FB10C8A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0F8-9FA2-49CA-8997-11DBD143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F594-6E39-48B4-BD38-53183166DE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700360" y="2708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09-28T09:04:25Z</dcterms:modified>
  <cp:revision>802</cp:revision>
  <dc:subject/>
  <dc:title>Free PPT Backgrounds</dc:title>
</cp:coreProperties>
</file>